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2B9F7307-386D-4966-BDF8-9760A22186C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9B223323-B374-4D58-8443-434CEFB9D12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1448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Teaching PSP Courses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Cours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28880" y="1611360"/>
            <a:ext cx="738504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consists of many individual elements that have been carefully integrated to help engineers improve their personal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enefits of the PSP depend 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nergy among the el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ogressive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ssignments themsel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cour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ver all of the methods and leve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programming assignments and repo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Assign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gramming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 students to practice the PSP metho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nerate the data needed for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insight into the statistical techniques used in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ports help students to understand their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Cours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multiple PSP courses for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Academic: 16 lecture/10 program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Part1 &amp; II: 10 day/10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Part I &amp; II: 10 day/8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Fundamentals: 5 day/4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Advanced: 5 day/3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slides describe these cour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SP Academic: 16 lecture/10 program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one semester academic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original PSP book 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A Discipline for Software Engineer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vers full process: PSP0 through PSP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have a few days between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ed to convince students based on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st course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llen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(calendar and student) to take the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 instructor travel co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Part I &amp; II: 10 day/10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wo class-week course for indust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original PSP book 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A Discipline for Software Engineer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vers PSP0 through PSP2.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bout 3 weeks total effort (4 homework assignment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ed to convince students based on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st course resul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llenges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to take the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th-challenged developers have problems with some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ok is not an easy rea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ount of work in allotted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ion r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Part I &amp; II: 10 day/8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wo class-week course for indust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2nd PSP book 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A Self Improvement Process for Software Enginee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vers PSP0 through PSP2.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duced and simplified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porates a littl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ust over 2 weeks total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ed to convince students based on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eptable course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llenges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to take the course (a one week course desired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th-challenged developers have problems with some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SP Fundamentals: 5 day/4 program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one week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2nd PSP book 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A Self Improvement Process for Software Enginee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vers most of PSP0 through PSP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s on what needed for first TSP project, convincing results not a prior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s same as 1st week of 10 day/8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analysis re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ed capstone exercis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porates a littl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 week total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Advanced: 5 day/3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one week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2nd PSP book 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A Self Improvement Process for Software Enginee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ed to augment PSP Fundaments, covers the parts of PSP not addressed in Fundamentals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s same as first three of the 2nd week of 10 day/8 program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s an analysis re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porates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 week total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17720" y="1709640"/>
          <a:ext cx="7413480" cy="4659480"/>
        </p:xfrm>
        <a:graphic>
          <a:graphicData uri="http://schemas.openxmlformats.org/drawingml/2006/table">
            <a:tbl>
              <a:tblPr/>
              <a:tblGrid>
                <a:gridCol w="1492200"/>
                <a:gridCol w="2963880"/>
                <a:gridCol w="2957400"/>
              </a:tblGrid>
              <a:tr h="45720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Overview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0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follow a defined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llect complete, consistent and accurate time, size, defect, and schedule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and instrument a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evolve a process based on analysis and PIP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1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a defined estimating process with limited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plan status and project likely completion dat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statistical methods improvement their estimates and calculate prediction interv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estimating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2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build personal design and review checklist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nduct a personal review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quality status and project likely final quality levels.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reate designs that are reviewable and verifiable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verify designs using different techniqu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overall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Capstone Exercise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and use personal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work in a team environment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erformance Analysis Repor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identify their strengths and weakness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set challenging and realistic personal improvement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changes required to achieve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mphasis of this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this PSP Instructor course, is designed to prepare you to teach multiple versions of the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mary emphasis is on preparing you to tea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Part I &amp; II: 10 day/8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Fundamentals and PSP Advanc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Part I &amp; II: 10 day/8 program is available through the SEI’s partner resource websi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Fundamentals and PSP Advanced are available through the iCarnegie blended learning sys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arn by Do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 see and I forget,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 read and I may remember,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 do and I understand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 Chinese proverb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he PSP methods by using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y and practice prepare students to apply the PSP methods after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ust make sure that students correctly apply the methods in their assign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tivating Quality 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instructors must motivate students to do qualit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by insisting that students submit correc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ess the importance of making sure that the students know how to do an assignment before they sta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ze getting the assignment correct over turning it in on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ke Quality Clea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17360" y="1533240"/>
            <a:ext cx="7391160" cy="48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work is often defined as conformance to specific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this clear to students by insisting th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ments include the proper for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forms are completed correct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fusing to accept assignments that do not conform to the specification will dramatically improve the quality of a student’s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vide Rapid Feedbac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pid feedback is key in learning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ever possi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lans and estimates before develop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a quick check for correctness when assignments are submit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rade and return assignments before the next assignment begi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cognize Individual Abilit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structor must recognize and encourage each student’s unique a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 performance will vary wid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rading should emphasize the students’ ability to improve and to use their data to change their behavi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not base grades on absolute performance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e of PSP Class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class data to the students whenever possi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evaluations indicate that the presentation of class data enhances lear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helps students to see the benefits of using the methods taught in the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general, students find it easier to accept their own results when class data is presen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sis of class data by the instructor helps students to understand how data may be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intain Confidenti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17720" y="1544400"/>
            <a:ext cx="7400880" cy="48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Under no circumstances should any individual student’s data be presented to the class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ing either good or bad results can affect the quality of data repor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ing class data is encourag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data from other classes may be presented if confidentiality can be maintai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is introduced in progressive steps, where each step provides the foundation for the nex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urse lectures, exercises, and reports were designed to implement this strate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tivate your students to do qualit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lecture will help you to understa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urse desig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cour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mmended approach to teaching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/grad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ing class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39680" y="170964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objectives and pre-requisi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cour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and grading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class data as a teaching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Course Objectiv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39680" y="170964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of the PSP courses is to introduce software engineers to disciplined methods for producing qualit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ir own data, engineers demonstrate the value of these methods and convince themselves to apply disciplined methods in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o define, measure, plan, control, and improve their personal work proces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Course Prerequisi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39680" y="170964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prerequisites for 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luency in at least one programming languag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ment environment for this langua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tional guidelines for 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miliarity with basic statistics and simple formal notations is helpfu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should use the language in which they are most flu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Course Focu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477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instructors keep students focused on the course objectiv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to use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ing process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data to improve perform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is not a programming course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students on the quality of their process and the accuracy of their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Do no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evaluate the students’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courage students to keep their programs simp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arning Strategy for the P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is introduced in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step builds a foundation for the next ste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ing the learning objectives for each level will help you to build the proper found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ilding the Found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37880" y="5735520"/>
            <a:ext cx="30351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ith PSP0, engineers learn to use a process and gather data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876920" y="5651640"/>
            <a:ext cx="3276360" cy="533160"/>
          </a:xfrm>
          <a:prstGeom prst="rect">
            <a:avLst/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Baseline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SP0 and PSP0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943600" y="4923000"/>
            <a:ext cx="1085760" cy="60948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19680" y="4330800"/>
            <a:ext cx="3333600" cy="533160"/>
          </a:xfrm>
          <a:prstGeom prst="rect">
            <a:avLst/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ersonal Project Plann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SP1 and PSP1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038240" y="4280040"/>
            <a:ext cx="31291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ith PSP1, engineers learn to build high-quality plan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1800" spc="-1" strike="noStrike">
                <a:solidFill>
                  <a:srgbClr val="99ccff"/>
                </a:solidFill>
                <a:latin typeface="Arial"/>
              </a:rPr>
              <a:t>To build high-quality plans, you need data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4808520" y="2951280"/>
            <a:ext cx="3344760" cy="533160"/>
          </a:xfrm>
          <a:prstGeom prst="rect">
            <a:avLst/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ersonal Quality Manage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SP2 and PSP2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5937120" y="3583080"/>
            <a:ext cx="1089000" cy="60948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1028880" y="2927520"/>
            <a:ext cx="31384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ith PSP2, engineers learn to build high-quality par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1800" spc="-1" strike="noStrike">
                <a:solidFill>
                  <a:srgbClr val="99ccff"/>
                </a:solidFill>
                <a:latin typeface="Arial"/>
              </a:rPr>
              <a:t>To build high-quality parts, you need high-quality plan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4794120" y="1577880"/>
            <a:ext cx="3359160" cy="533520"/>
          </a:xfrm>
          <a:prstGeom prst="rect">
            <a:avLst/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m Software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7" name="AutoShape 15"/>
          <p:cNvSpPr/>
          <p:nvPr/>
        </p:nvSpPr>
        <p:spPr>
          <a:xfrm>
            <a:off x="5925960" y="2187720"/>
            <a:ext cx="1094040" cy="60948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028880" y="1620720"/>
            <a:ext cx="31525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ith TSP, teams learn to build high-quality program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1800" spc="-1" strike="noStrike">
                <a:solidFill>
                  <a:srgbClr val="99ccff"/>
                </a:solidFill>
                <a:latin typeface="Arial"/>
              </a:rPr>
              <a:t>To build high-quality programs, you need high-quality par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10Z</dcterms:modified>
  <cp:revision>210</cp:revision>
  <dc:subject/>
  <dc:title>No Slide Title</dc:title>
</cp:coreProperties>
</file>